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911-D9D2-4042-93D1-BEACC0C4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49A-5444-4A6B-8782-49E4E02C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BFF-2409-4605-BBE0-D688A7D0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735-4A18-44DA-9069-8EA9E49A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B16-E6C1-4C66-BC19-736F7061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4C0-6128-494A-B6B5-F976691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9BF-F07B-42A9-B5B1-1CC0991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3B5-D4F2-4B31-AC24-C82983F9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C48-505C-4CDA-96B6-D3EE18B1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EAD-05FA-4D4F-AE56-A9CF3B0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5E7-EC57-41F7-B059-3D367A6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603-73C9-4824-B3D1-2CC5A0D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0EAE-5BD0-4C2C-936F-1CB68A1C1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250920" y="234936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ЈЕ. АНТИОКСИДАНТИ. КОНЗЕРВАНСИ. ЗАСЛАЂИВАЧИ. ПОВРШИНСКИ АКТИВНЕ МАТЕРИЈЕ. АРОМЕ. НИТРАТИ И НИТРИТИ. ФОСФ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15" descr=""/>
          <p:cNvPicPr/>
          <p:nvPr/>
        </p:nvPicPr>
        <p:blipFill>
          <a:blip r:embed="rId1"/>
          <a:stretch/>
        </p:blipFill>
        <p:spPr>
          <a:xfrm>
            <a:off x="8096400" y="1176480"/>
            <a:ext cx="749160" cy="44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езултат слика за logo fakulteta medicinskih nauka"/>
          <p:cNvPicPr/>
          <p:nvPr/>
        </p:nvPicPr>
        <p:blipFill>
          <a:blip r:embed="rId2"/>
          <a:stretch/>
        </p:blipFill>
        <p:spPr>
          <a:xfrm>
            <a:off x="7380360" y="9360"/>
            <a:ext cx="176364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Резултат слика за logo univerziteta u kragujevcu"/>
          <p:cNvPicPr/>
          <p:nvPr/>
        </p:nvPicPr>
        <p:blipFill>
          <a:blip r:embed="rId3"/>
          <a:stretch/>
        </p:blipFill>
        <p:spPr>
          <a:xfrm>
            <a:off x="7380360" y="5589720"/>
            <a:ext cx="1763640" cy="126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692360" y="587700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ц. др Душан Љ. Том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: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9-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3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24"/>
          <p:cNvSpPr/>
          <p:nvPr/>
        </p:nvSpPr>
        <p:spPr>
          <a:xfrm>
            <a:off x="468360" y="1971720"/>
            <a:ext cx="8136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ЦИЈ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цијани су хетерозиди који се разлажу под дејством киселина и ензима и дају агликон антоцијан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структуре и рН вредности, показују нијансе плаве, љубичасте, ружичасте или црвено-љубичаст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екстракцијом из тамних сорти грожђа и другог воћа и повр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о сумпор диоксида антоцијани губе боју а при већим концентрацијама сумпор диоксида реакција је иреверзиби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4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24"/>
          <p:cNvSpPr/>
          <p:nvPr/>
        </p:nvSpPr>
        <p:spPr>
          <a:xfrm>
            <a:off x="468360" y="1844640"/>
            <a:ext cx="8136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ЕНИЛА И КАРМИ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и инсекти изоловани из инсеката породиц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cido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М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тамно браон боје, карамел има и карактеристичан укус и ми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карамелизацијом глукозе, сахарозе и других угљ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них прекур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орски производи, ликери, фармацеутск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5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24"/>
          <p:cNvSpPr/>
          <p:nvPr/>
        </p:nvSpPr>
        <p:spPr>
          <a:xfrm>
            <a:off x="468360" y="1928880"/>
            <a:ext cx="8136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Ф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и пигмент лишћа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елена боја незрелих пло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ФЛ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као боја жуто-наранџасте нијан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додаје као боја а не као витамин, обавезно је да се и декларише као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6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тске бо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интетска хемијска једињења, примењена у малим количинама могу да обоје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боје се деле на: боје растворљиве у води, боје растворљиве у мастима и боје намењене за бојење спољашњих површина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појединачно и у комбин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 једињења (жуте, оранж и мрке нијансе); триарилметански деривати (зелене и плаве нијансе); ксантене (црвене нијансе) и индиго боје (плаве нијан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7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24"/>
          <p:cNvSpPr/>
          <p:nvPr/>
        </p:nvSpPr>
        <p:spPr>
          <a:xfrm>
            <a:off x="468360" y="19288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која могу да спрече или успоре процес аутооксидације масти и уља и тиме продужавају њихову трајност, као и трајност прехрамбених производа који садрже маси и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 у малим количинама, не мењају мирис и укус, стабилни су на температури обраде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токсични и не дају токсичне производе приликом обраде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8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24"/>
          <p:cNvSpPr/>
          <p:nvPr/>
        </p:nvSpPr>
        <p:spPr>
          <a:xfrm>
            <a:off x="468360" y="21384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ринципу испољавања антиоксидантног дејства деле се на супстанце које реагују са слободним радикалима и редукујуће аген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и синтетски антиоксид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9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24"/>
          <p:cNvSpPr/>
          <p:nvPr/>
        </p:nvSpPr>
        <p:spPr>
          <a:xfrm>
            <a:off x="468360" y="1928880"/>
            <a:ext cx="8136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рани могу бити присутна једињења која природно имају антиоксидантна својства, али се она означавају као фитохемикалије и не убрајају се у ади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ФЕ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из природних производа као што су уље соје и кукуруза, пшеничне и овсене к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е структуре токоферола стабилизују слободне радик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3851280" y="1268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одни антиоксид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4"/>
          <p:cNvSpPr/>
          <p:nvPr/>
        </p:nvSpPr>
        <p:spPr>
          <a:xfrm>
            <a:off x="468360" y="1928880"/>
            <a:ext cx="8136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киселина и њој сродне супстанце имају нижи редокс потенцијал од компоненти које штите и зато се лакше и брже оксид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 РУЗ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тивно деловање је резултат присуства фенолних киселина, дитерпена, тритерпена и друг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24"/>
          <p:cNvSpPr/>
          <p:nvPr/>
        </p:nvSpPr>
        <p:spPr>
          <a:xfrm>
            <a:off x="468360" y="1844640"/>
            <a:ext cx="813600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галне киселине: пропил-галат, октил-галат, додецил-г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-ХИДРОКСИАНИЗ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ан је на температурама при којима се врши обрада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-ХИДРОКСИ ТОЛУ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карциногено и хеморагич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924360" y="1268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тски антиоксид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2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24"/>
          <p:cNvSpPr/>
          <p:nvPr/>
        </p:nvSpPr>
        <p:spPr>
          <a:xfrm>
            <a:off x="468360" y="19288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ирање хране означава поступке којима се продужавају трајност и квалитет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су супстанце дефинисаног хемијског састава које могу да спрече или успоре развој микроорганизама и/или спрече раст патогених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се могу поделити на липофилне (сорбинска киселина и њене соли, бензоева киселина и њене соли и естри) и хидрофилне (нитрати, нитрити и сулф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24"/>
          <p:cNvSpPr/>
          <p:nvPr/>
        </p:nvSpPr>
        <p:spPr>
          <a:xfrm>
            <a:off x="468360" y="1928880"/>
            <a:ext cx="83516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и су супстанце које се не користе као намирнице, нити представљају карактеристичне састојке намир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из технолошких разлога у току производње, прераде, припреме, обраде, паковања, транспорта или чувања, при чему саме директно или индиректно постају састојци намирниц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x Alimentari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МЕЈУ ДА МАСКИРАЈУ ЛОШ КВАЛИТЕТ СИРОВИН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3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24"/>
          <p:cNvSpPr/>
          <p:nvPr/>
        </p:nvSpPr>
        <p:spPr>
          <a:xfrm>
            <a:off x="395280" y="1928880"/>
            <a:ext cx="820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 раст плесни и квас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се разлаже на угљендиоксид и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млечним производима, мајонезу, маргарин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ЕВ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икробна активност - недисосовани облик бензоев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безалкохолним напицима, маргарину и сос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4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24"/>
          <p:cNvSpPr/>
          <p:nvPr/>
        </p:nvSpPr>
        <p:spPr>
          <a:xfrm>
            <a:off x="468360" y="177336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И И НИТР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ити инхибирају раст патогених бак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е специфичном укусу и боји сухомеснатих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деловања је ослобађање сумпор диоксида из соли у кисел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винима, освежавајућим нап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ти се у организму оксидују у сулфате и као такви излуч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5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24"/>
          <p:cNvSpPr/>
          <p:nvPr/>
        </p:nvSpPr>
        <p:spPr>
          <a:xfrm>
            <a:off x="395280" y="2152800"/>
            <a:ext cx="83534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СА СЛАТКИМ УК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, грожђани шећер, шећерна репа, шећерна трска, кукурузни сируп, јаворов сируп, производи хидролизе скр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и не спадају у ади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а повезаност између уноса шећера и зубног кариј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6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24"/>
          <p:cNvSpPr/>
          <p:nvPr/>
        </p:nvSpPr>
        <p:spPr>
          <a:xfrm>
            <a:off x="395280" y="1859040"/>
            <a:ext cx="835344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НИ АЛКОХ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тол, манитол, изомалт, ксилитол, еритри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ка редукција одговарајућих шећ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 независан од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за особе оболеле од дијабетеса и за оралну хигиј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шећера” или „не изазивају карије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7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24"/>
          <p:cNvSpPr/>
          <p:nvPr/>
        </p:nvSpPr>
        <p:spPr>
          <a:xfrm>
            <a:off x="395280" y="1859040"/>
            <a:ext cx="83534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ЗИВНИ ЗАСЛАЂИВ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различити од шећера, изразито слатког укуса, са веома малом или практично без енергетске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а више заслађивача - маскирање накнадног 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8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24"/>
          <p:cNvSpPr/>
          <p:nvPr/>
        </p:nvSpPr>
        <p:spPr>
          <a:xfrm>
            <a:off x="3492360" y="1773360"/>
            <a:ext cx="3527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АЂИВАЧКА МО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47640" y="2492280"/>
          <a:ext cx="6553440" cy="4038840"/>
        </p:xfrm>
        <a:graphic>
          <a:graphicData uri="http://schemas.openxmlformats.org/drawingml/2006/table">
            <a:tbl>
              <a:tblPr/>
              <a:tblGrid>
                <a:gridCol w="2184480"/>
                <a:gridCol w="1776600"/>
                <a:gridCol w="25923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нзивни заслађив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слађивачка мо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надни ук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ар, горак, метал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ар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0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сулфам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но-го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р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ам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м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00-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хесперидин Д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виол 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-1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9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Box 24"/>
          <p:cNvSpPr/>
          <p:nvPr/>
        </p:nvSpPr>
        <p:spPr>
          <a:xfrm>
            <a:off x="395280" y="1859040"/>
            <a:ext cx="8353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ЗИВНИ ЗАСЛАЂИВ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унос - негативни здравствени ефек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там - „садржи извор фенилаланин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сулфам К - ниска акутна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0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24"/>
          <p:cNvSpPr/>
          <p:nvPr/>
        </p:nvSpPr>
        <p:spPr>
          <a:xfrm>
            <a:off x="395280" y="1859040"/>
            <a:ext cx="83534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У Х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у стабилни (нпр. сахарин, цикламати, сукралоза, неотам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там - стабилан рН=3-5 (&lt; рН 3 хидролизује; &gt; рН 5 циклизу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ни заслађивачи или се додају у храну при индустријској пре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1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 омогућавају стабилност емулзија, формирање и одржавање хомогених мешавина две или више фаза које се не меш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овршинског напона између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/нејонски емулг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 природног порекла – агар, алгинска киселина, караге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2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24"/>
          <p:cNvSpPr/>
          <p:nvPr/>
        </p:nvSpPr>
        <p:spPr>
          <a:xfrm>
            <a:off x="179280" y="192888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овани скроб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билизатори, згушњива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целулоз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гушњивачи, емулгатори, стабилизато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осфа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гушњивачи, емулгатори, хумектанти, регулатори киселости, средства за дизање теста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 да нека супстанца постане адитив мора да постоји технолошка потреба и добит за потрош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лов је такође да њихово присуство у храни не доводи потрошача у заблуду и да не представља ризик по здравље потрош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би били одобрени за употребу адитиви морају проћи процес проц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кларацији је обавезно навођење присутног адитива (група, назив или Е број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3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24"/>
          <p:cNvSpPr/>
          <p:nvPr/>
        </p:nvSpPr>
        <p:spPr>
          <a:xfrm>
            <a:off x="468360" y="21733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пецифичних састојака - комбинација чулних доживљ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ивљај ароме (чулима) - није сразмеран количини једињења него особинам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е се деле на: природне, природно идентичне и синтет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4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24"/>
          <p:cNvSpPr/>
          <p:nvPr/>
        </p:nvSpPr>
        <p:spPr>
          <a:xfrm>
            <a:off x="468360" y="19288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е аро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е термичког трет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е 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ин (* 1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L - „висок садржај кофеина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5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24"/>
          <p:cNvSpPr/>
          <p:nvPr/>
        </p:nvSpPr>
        <p:spPr>
          <a:xfrm>
            <a:off x="468360" y="1928880"/>
            <a:ext cx="82803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ИВАЧИ А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ичу деловање већ присутних а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појачивачи арома користе се глутаминска киселина и њене сол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K, Ca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о и гуанилна киселина и њене сол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K, 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оли инозинске кисел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K, 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 rot="20111400">
            <a:off x="582480" y="2738520"/>
            <a:ext cx="78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7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4"/>
          <p:cNvSpPr/>
          <p:nvPr/>
        </p:nvSpPr>
        <p:spPr>
          <a:xfrm>
            <a:off x="468360" y="1778040"/>
            <a:ext cx="8136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оцену адитива неопходно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 и карактер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процесу производње ад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стабилности, рекцијама и судбини адитива у х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технолошке потребе и предложена 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из других држава о употреби ад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изложености адит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 токсиколошки под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8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2268360" y="1197000"/>
          <a:ext cx="6096240" cy="5654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а ади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бро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-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зерван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-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елине, регулатори кисел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7-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ушњивачи, стабилизатори, емулгатори, емулгујуће соли, средства за желирање, хумектанти, средства за дизање теста, средства за учвршћавање, средства против згрудњавања, средства за повећање запрем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-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јачивачи ар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0-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против стварања пене, средства за глазирање, средства за дизање браш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00-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ел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0-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лађив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50-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ификовани скроб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оправдана употре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 се додају храни како би се надоместила природна боја намирница која се изгубила при процесима прераде и складиштења, да би се смањиле варијације у серији, да би се намирницама које немају природну боју дао привлачнији 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алкохолни напици, кондиторски производи, дезерти, пекарски производи, сос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 (порекло): природне и синтет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4"/>
          <p:cNvSpPr/>
          <p:nvPr/>
        </p:nvSpPr>
        <p:spPr>
          <a:xfrm>
            <a:off x="468360" y="1928880"/>
            <a:ext cx="8136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одне бој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отеноиди, антоцијани, кошенила, карамел, хлорофил, рибофла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ЕН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ени (угљоводоници) и ксантофили (оксидовани дерив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је се екстракцијом из биљака и ал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е, наранџасте и црвене нијансе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1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4"/>
          <p:cNvSpPr/>
          <p:nvPr/>
        </p:nvSpPr>
        <p:spPr>
          <a:xfrm>
            <a:off x="468360" y="1928880"/>
            <a:ext cx="8136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О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о црвена уљана те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екстракцијом из црвеног парадајза или хемијском синт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алкохолни ароматизовани нап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изложена деца предшколског и школског у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2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24"/>
          <p:cNvSpPr/>
          <p:nvPr/>
        </p:nvSpPr>
        <p:spPr>
          <a:xfrm>
            <a:off x="468360" y="1920960"/>
            <a:ext cx="81360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ОФ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оксидацијом каро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алкохолну, алдехидну, кето или карбоксилну гр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теин (лишће многих биљака, жуманце), кантаксантин, екстракт паприке богат капсантином и капсоруб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 екстракт, биксин и норбиксин су жути пигменти изоловани из спољашњег омотача семена анато др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1:26:47Z</dcterms:created>
  <dc:creator>Dusan</dc:creator>
  <dc:description/>
  <dc:language>en-US</dc:language>
  <cp:lastModifiedBy>Dusan Tomovic</cp:lastModifiedBy>
  <dcterms:modified xsi:type="dcterms:W3CDTF">2020-09-16T21:19:38Z</dcterms:modified>
  <cp:revision>497</cp:revision>
  <dc:subject/>
  <dc:title>Slide 1</dc:title>
</cp:coreProperties>
</file>